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jpeg" ContentType="image/jpeg"/>
  <Override PartName="/ppt/media/chimes.wav" ContentType="audio/x-wav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B0F6-A9C9-406B-9186-C240F68268F6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34F2-B5D1-4DCE-9361-8F1EBC404F6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ECCE-A3F5-4675-B211-D21D716A0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9454-DEBB-4148-BAE1-64BABB1E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2D30-91AA-4DDF-A709-F9B7BF17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3DD3-A8CC-44DB-809C-48EA086C3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F709-87C8-43F4-BC2C-2560A3BE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4A72-CD05-430C-B3E1-61C0497B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C215-4F6B-4BBE-A133-AA2A7E07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8A44-57E7-45F0-8E0F-DEAD2004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7CDA-49BC-4AB3-A2FC-781D6108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D3B8-5F06-40FC-9D0B-206D03F1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201F-0A7D-4E39-9F32-CC464C06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0B8B-1627-4D1C-BC2F-7BCE479D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5F23-6185-437E-97D1-4244D58D0C3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.gif"/><Relationship Id="rId3" Type="http://schemas.openxmlformats.org/officeDocument/2006/relationships/image" Target="../media/image4.jpeg"/><Relationship Id="rId4" Type="http://schemas.openxmlformats.org/officeDocument/2006/relationships/image" Target="../media/image3.gif"/><Relationship Id="rId5" Type="http://schemas.openxmlformats.org/officeDocument/2006/relationships/image" Target="../media/image4.jpeg"/><Relationship Id="rId6" Type="http://schemas.openxmlformats.org/officeDocument/2006/relationships/image" Target="../media/image3.gif"/><Relationship Id="rId7" Type="http://schemas.openxmlformats.org/officeDocument/2006/relationships/image" Target="../media/image4.jpeg"/><Relationship Id="rId8" Type="http://schemas.openxmlformats.org/officeDocument/2006/relationships/image" Target="../media/image3.gif"/><Relationship Id="rId9" Type="http://schemas.openxmlformats.org/officeDocument/2006/relationships/image" Target="../media/image4.jpeg"/><Relationship Id="rId10" Type="http://schemas.openxmlformats.org/officeDocument/2006/relationships/image" Target="../media/image3.gif"/><Relationship Id="rId11" Type="http://schemas.openxmlformats.org/officeDocument/2006/relationships/image" Target="../media/image4.jpeg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applause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audio" Target="../media/applause.wav"/><Relationship Id="rId32" Type="http://schemas.openxmlformats.org/officeDocument/2006/relationships/audio" Target="../media/chimes.wav"/><Relationship Id="rId33" Type="http://schemas.openxmlformats.org/officeDocument/2006/relationships/audio" Target="../media/chimes.wav"/><Relationship Id="rId34" Type="http://schemas.openxmlformats.org/officeDocument/2006/relationships/audio" Target="../media/chimes.wav"/><Relationship Id="rId35" Type="http://schemas.openxmlformats.org/officeDocument/2006/relationships/audio" Target="../media/chimes.wav"/><Relationship Id="rId36" Type="http://schemas.openxmlformats.org/officeDocument/2006/relationships/audio" Target="../media/chimes.wav"/><Relationship Id="rId37" Type="http://schemas.openxmlformats.org/officeDocument/2006/relationships/audio" Target="../media/chimes.wav"/><Relationship Id="rId38" Type="http://schemas.openxmlformats.org/officeDocument/2006/relationships/audio" Target="../media/chimes.wav"/><Relationship Id="rId39" Type="http://schemas.openxmlformats.org/officeDocument/2006/relationships/audio" Target="../media/chimes.wav"/><Relationship Id="rId40" Type="http://schemas.openxmlformats.org/officeDocument/2006/relationships/audio" Target="../media/chimes.wav"/><Relationship Id="rId41" Type="http://schemas.openxmlformats.org/officeDocument/2006/relationships/audio" Target="../media/applause.wav"/><Relationship Id="rId42" Type="http://schemas.openxmlformats.org/officeDocument/2006/relationships/audio" Target="../media/chimes.wav"/><Relationship Id="rId43" Type="http://schemas.openxmlformats.org/officeDocument/2006/relationships/audio" Target="../media/chimes.wav"/><Relationship Id="rId44" Type="http://schemas.openxmlformats.org/officeDocument/2006/relationships/audio" Target="../media/chimes.wav"/><Relationship Id="rId45" Type="http://schemas.openxmlformats.org/officeDocument/2006/relationships/audio" Target="../media/chimes.wav"/><Relationship Id="rId46" Type="http://schemas.openxmlformats.org/officeDocument/2006/relationships/audio" Target="../media/chimes.wav"/><Relationship Id="rId47" Type="http://schemas.openxmlformats.org/officeDocument/2006/relationships/audio" Target="../media/chimes.wav"/><Relationship Id="rId48" Type="http://schemas.openxmlformats.org/officeDocument/2006/relationships/audio" Target="../media/chimes.wav"/><Relationship Id="rId49" Type="http://schemas.openxmlformats.org/officeDocument/2006/relationships/audio" Target="../media/chimes.wav"/><Relationship Id="rId50" Type="http://schemas.openxmlformats.org/officeDocument/2006/relationships/audio" Target="../media/chimes.wav"/><Relationship Id="rId51" Type="http://schemas.openxmlformats.org/officeDocument/2006/relationships/audio" Target="../media/applause.wav"/><Relationship Id="rId52" Type="http://schemas.openxmlformats.org/officeDocument/2006/relationships/audio" Target="../media/chimes.wav"/><Relationship Id="rId53" Type="http://schemas.openxmlformats.org/officeDocument/2006/relationships/audio" Target="../media/chimes.wav"/><Relationship Id="rId54" Type="http://schemas.openxmlformats.org/officeDocument/2006/relationships/audio" Target="../media/chimes.wav"/><Relationship Id="rId55" Type="http://schemas.openxmlformats.org/officeDocument/2006/relationships/audio" Target="../media/chimes.wav"/><Relationship Id="rId56" Type="http://schemas.openxmlformats.org/officeDocument/2006/relationships/audio" Target="../media/chimes.wav"/><Relationship Id="rId57" Type="http://schemas.openxmlformats.org/officeDocument/2006/relationships/audio" Target="../media/chimes.wav"/><Relationship Id="rId58" Type="http://schemas.openxmlformats.org/officeDocument/2006/relationships/audio" Target="../media/chimes.wav"/><Relationship Id="rId59" Type="http://schemas.openxmlformats.org/officeDocument/2006/relationships/audio" Target="../media/chimes.wav"/><Relationship Id="rId60" Type="http://schemas.openxmlformats.org/officeDocument/2006/relationships/audio" Target="../media/chimes.wav"/><Relationship Id="rId61" Type="http://schemas.openxmlformats.org/officeDocument/2006/relationships/audio" Target="../media/applause.wav"/><Relationship Id="rId62" Type="http://schemas.openxmlformats.org/officeDocument/2006/relationships/slideLayout" Target="../slideLayouts/slideLayout1.xml"/><Relationship Id="rId6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3286080" y="3564000"/>
            <a:ext cx="1785960" cy="257796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3" descr=""/>
          <p:cNvPicPr/>
          <p:nvPr/>
        </p:nvPicPr>
        <p:blipFill>
          <a:blip r:embed="rId2"/>
          <a:stretch/>
        </p:blipFill>
        <p:spPr>
          <a:xfrm>
            <a:off x="1487520" y="1427040"/>
            <a:ext cx="5986440" cy="2022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9" descr=""/>
          <p:cNvPicPr/>
          <p:nvPr/>
        </p:nvPicPr>
        <p:blipFill>
          <a:blip r:embed="rId3"/>
          <a:stretch/>
        </p:blipFill>
        <p:spPr>
          <a:xfrm rot="20913000">
            <a:off x="438120" y="2295360"/>
            <a:ext cx="90792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9" descr=""/>
          <p:cNvPicPr/>
          <p:nvPr/>
        </p:nvPicPr>
        <p:blipFill>
          <a:blip r:embed="rId4"/>
          <a:stretch/>
        </p:blipFill>
        <p:spPr>
          <a:xfrm rot="20913000">
            <a:off x="7724880" y="2438280"/>
            <a:ext cx="907920" cy="914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"/>
          <p:cNvPicPr/>
          <p:nvPr/>
        </p:nvPicPr>
        <p:blipFill>
          <a:blip r:embed="rId5"/>
          <a:stretch/>
        </p:blipFill>
        <p:spPr>
          <a:xfrm rot="20913000">
            <a:off x="1652760" y="938160"/>
            <a:ext cx="907920" cy="914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9" descr=""/>
          <p:cNvPicPr/>
          <p:nvPr/>
        </p:nvPicPr>
        <p:blipFill>
          <a:blip r:embed="rId6"/>
          <a:stretch/>
        </p:blipFill>
        <p:spPr>
          <a:xfrm rot="20913000">
            <a:off x="3724200" y="866880"/>
            <a:ext cx="90828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9" descr=""/>
          <p:cNvPicPr/>
          <p:nvPr/>
        </p:nvPicPr>
        <p:blipFill>
          <a:blip r:embed="rId7"/>
          <a:stretch/>
        </p:blipFill>
        <p:spPr>
          <a:xfrm rot="20913000">
            <a:off x="6081840" y="1152360"/>
            <a:ext cx="9079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9" descr=""/>
          <p:cNvPicPr/>
          <p:nvPr/>
        </p:nvPicPr>
        <p:blipFill>
          <a:blip r:embed="rId1"/>
          <a:stretch/>
        </p:blipFill>
        <p:spPr>
          <a:xfrm rot="20913000">
            <a:off x="102960" y="209520"/>
            <a:ext cx="907920" cy="912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3571920" y="5286240"/>
            <a:ext cx="1143000" cy="157176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19"/>
          <p:cNvGrpSpPr/>
          <p:nvPr/>
        </p:nvGrpSpPr>
        <p:grpSpPr>
          <a:xfrm>
            <a:off x="357120" y="5857920"/>
            <a:ext cx="936720" cy="857160"/>
            <a:chOff x="357120" y="5857920"/>
            <a:chExt cx="936720" cy="857160"/>
          </a:xfrm>
        </p:grpSpPr>
        <p:pic>
          <p:nvPicPr>
            <p:cNvPr id="58" name="Picture 2" descr="C:\Users\Antoneta\Pictures\leaf-luck-clover_~u11227523.jpg"/>
            <p:cNvPicPr/>
            <p:nvPr/>
          </p:nvPicPr>
          <p:blipFill>
            <a:blip r:embed="rId3"/>
            <a:stretch/>
          </p:blipFill>
          <p:spPr>
            <a:xfrm>
              <a:off x="357120" y="5857920"/>
              <a:ext cx="93672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Rectangle 13"/>
            <p:cNvSpPr/>
            <p:nvPr/>
          </p:nvSpPr>
          <p:spPr>
            <a:xfrm>
              <a:off x="727560" y="6073560"/>
              <a:ext cx="49500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ffff"/>
                  </a:solidFill>
                  <a:latin typeface="Arial Black"/>
                  <a:ea typeface="Aharon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" name="Picture 39" descr=""/>
          <p:cNvPicPr/>
          <p:nvPr/>
        </p:nvPicPr>
        <p:blipFill>
          <a:blip r:embed="rId4"/>
          <a:stretch/>
        </p:blipFill>
        <p:spPr>
          <a:xfrm rot="20913000">
            <a:off x="1795320" y="223920"/>
            <a:ext cx="908280" cy="91440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37"/>
          <p:cNvGrpSpPr/>
          <p:nvPr/>
        </p:nvGrpSpPr>
        <p:grpSpPr>
          <a:xfrm>
            <a:off x="2143080" y="5857920"/>
            <a:ext cx="928800" cy="795240"/>
            <a:chOff x="2143080" y="5857920"/>
            <a:chExt cx="928800" cy="795240"/>
          </a:xfrm>
        </p:grpSpPr>
        <p:pic>
          <p:nvPicPr>
            <p:cNvPr id="62" name="Picture 2" descr="C:\Users\Antoneta\Pictures\leaf-luck-clover_~u11227523.jpg"/>
            <p:cNvPicPr/>
            <p:nvPr/>
          </p:nvPicPr>
          <p:blipFill>
            <a:blip r:embed="rId5"/>
            <a:stretch/>
          </p:blipFill>
          <p:spPr>
            <a:xfrm>
              <a:off x="2143080" y="5857920"/>
              <a:ext cx="92880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Rectangle 39"/>
            <p:cNvSpPr/>
            <p:nvPr/>
          </p:nvSpPr>
          <p:spPr>
            <a:xfrm>
              <a:off x="2510280" y="6058080"/>
              <a:ext cx="49068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ffff"/>
                  </a:solidFill>
                  <a:latin typeface="Arial Black"/>
                  <a:ea typeface="Aharon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4" name="Picture 39" descr=""/>
          <p:cNvPicPr/>
          <p:nvPr/>
        </p:nvPicPr>
        <p:blipFill>
          <a:blip r:embed="rId6"/>
          <a:stretch/>
        </p:blipFill>
        <p:spPr>
          <a:xfrm rot="20913000">
            <a:off x="3867120" y="81000"/>
            <a:ext cx="907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41"/>
          <p:cNvGrpSpPr/>
          <p:nvPr/>
        </p:nvGrpSpPr>
        <p:grpSpPr>
          <a:xfrm>
            <a:off x="4929120" y="5715000"/>
            <a:ext cx="1000080" cy="785880"/>
            <a:chOff x="4929120" y="5715000"/>
            <a:chExt cx="1000080" cy="785880"/>
          </a:xfrm>
        </p:grpSpPr>
        <p:pic>
          <p:nvPicPr>
            <p:cNvPr id="66" name="Picture 2" descr="C:\Users\Antoneta\Pictures\leaf-luck-clover_~u11227523.jpg"/>
            <p:cNvPicPr/>
            <p:nvPr/>
          </p:nvPicPr>
          <p:blipFill>
            <a:blip r:embed="rId7"/>
            <a:stretch/>
          </p:blipFill>
          <p:spPr>
            <a:xfrm>
              <a:off x="4929120" y="5715000"/>
              <a:ext cx="100008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Rectangle 43"/>
            <p:cNvSpPr/>
            <p:nvPr/>
          </p:nvSpPr>
          <p:spPr>
            <a:xfrm>
              <a:off x="5324400" y="5913000"/>
              <a:ext cx="528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ffff"/>
                  </a:solidFill>
                  <a:latin typeface="Arial Black"/>
                  <a:ea typeface="Aharon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" name="Picture 39" descr=""/>
          <p:cNvPicPr/>
          <p:nvPr/>
        </p:nvPicPr>
        <p:blipFill>
          <a:blip r:embed="rId8"/>
          <a:stretch/>
        </p:blipFill>
        <p:spPr>
          <a:xfrm rot="20913000">
            <a:off x="5724360" y="81000"/>
            <a:ext cx="908280" cy="9144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45"/>
          <p:cNvGrpSpPr/>
          <p:nvPr/>
        </p:nvGrpSpPr>
        <p:grpSpPr>
          <a:xfrm>
            <a:off x="6207120" y="5715000"/>
            <a:ext cx="936720" cy="857160"/>
            <a:chOff x="6207120" y="5715000"/>
            <a:chExt cx="936720" cy="857160"/>
          </a:xfrm>
        </p:grpSpPr>
        <p:pic>
          <p:nvPicPr>
            <p:cNvPr id="70" name="Picture 2" descr="C:\Users\Antoneta\Pictures\leaf-luck-clover_~u11227523.jpg"/>
            <p:cNvPicPr/>
            <p:nvPr/>
          </p:nvPicPr>
          <p:blipFill>
            <a:blip r:embed="rId9"/>
            <a:stretch/>
          </p:blipFill>
          <p:spPr>
            <a:xfrm>
              <a:off x="6207120" y="5715000"/>
              <a:ext cx="93672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47"/>
            <p:cNvSpPr/>
            <p:nvPr/>
          </p:nvSpPr>
          <p:spPr>
            <a:xfrm>
              <a:off x="6577560" y="5930640"/>
              <a:ext cx="49500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ffff"/>
                  </a:solidFill>
                  <a:latin typeface="Arial Black"/>
                  <a:ea typeface="Aharon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2" name="Picture 39" descr=""/>
          <p:cNvPicPr/>
          <p:nvPr/>
        </p:nvPicPr>
        <p:blipFill>
          <a:blip r:embed="rId10"/>
          <a:stretch/>
        </p:blipFill>
        <p:spPr>
          <a:xfrm rot="20913000">
            <a:off x="7439040" y="81000"/>
            <a:ext cx="907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49"/>
          <p:cNvGrpSpPr/>
          <p:nvPr/>
        </p:nvGrpSpPr>
        <p:grpSpPr>
          <a:xfrm>
            <a:off x="7500960" y="5643720"/>
            <a:ext cx="865080" cy="857160"/>
            <a:chOff x="7500960" y="5643720"/>
            <a:chExt cx="865080" cy="857160"/>
          </a:xfrm>
        </p:grpSpPr>
        <p:pic>
          <p:nvPicPr>
            <p:cNvPr id="74" name="Picture 2" descr="C:\Users\Antoneta\Pictures\leaf-luck-clover_~u11227523.jpg"/>
            <p:cNvPicPr/>
            <p:nvPr/>
          </p:nvPicPr>
          <p:blipFill>
            <a:blip r:embed="rId11"/>
            <a:stretch/>
          </p:blipFill>
          <p:spPr>
            <a:xfrm>
              <a:off x="7500960" y="5643720"/>
              <a:ext cx="86508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Rectangle 51"/>
            <p:cNvSpPr/>
            <p:nvPr/>
          </p:nvSpPr>
          <p:spPr>
            <a:xfrm>
              <a:off x="7842960" y="5859360"/>
              <a:ext cx="45684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ffff"/>
                  </a:solidFill>
                  <a:latin typeface="Arial Black"/>
                  <a:ea typeface="Aharoni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animMotion origin="layout" path="M -1.38889E-006 3.33333E-006 L 0.02361 0.07361 E">
                                      <p:cBhvr>
                                        <p:cTn id="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animMotion origin="layout" path="M 0.02361 0.07361 L -0.0158 0.1368 E">
                                      <p:cBhvr>
                                        <p:cTn id="1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animMotion origin="layout" path="M -0.01579 0.13681 L 0.07066 0.1787 E">
                                      <p:cBhvr>
                                        <p:cTn id="14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animMotion origin="layout" path="M 0.07066 0.17871 L -0.00816 0.26273 E">
                                      <p:cBhvr>
                                        <p:cTn id="1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animMotion origin="layout" path="M -0.00816 0.26273 L 0.07048 0.33611 E">
                                      <p:cBhvr>
                                        <p:cTn id="22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animMotion origin="layout" path="M 0.07048 0.33611 L 0.06267 0.46203 E">
                                      <p:cBhvr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Motion origin="layout" path="M 0.06267 0.46203 L 0.1493 0.4831 E">
                                      <p:cBhvr>
                                        <p:cTn id="3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animMotion origin="layout" path="M 0.1493 0.4831 L 0.1335 0.5882 E">
                                      <p:cBhvr>
                                        <p:cTn id="34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animMotion origin="layout" path="M 0.1335 0.5882 L 0.25954 0.52523 E">
                                      <p:cBhvr>
                                        <p:cTn id="3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applause.wav"/>
                                        </p:tgtEl>
                                      </p:cMediaNode>
                                    </p:audio>
                                    <p:animMotion origin="layout" path="M 0.25954 0.52523 L 0.33819 0.6618 E">
                                      <p:cBhvr>
                                        <p:cTn id="42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animMotion origin="layout" path="M 3.05556E-006 4.44444E-006 L 0.00208 0.09629 E">
                                      <p:cBhvr>
                                        <p:cTn id="47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Motion origin="layout" path="M 0.00208 0.09629 L 0.02569 0.14883 E">
                                      <p:cBhvr>
                                        <p:cTn id="51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Motion origin="layout" path="M 0.02569 0.14884 L -0.04514 0.22222 E">
                                      <p:cBhvr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animMotion origin="layout" path="M -0.04515 0.22221 L 0.04931 0.23286 E">
                                      <p:cBhvr>
                                        <p:cTn id="59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animMotion origin="layout" path="M 0.04931 0.23287 L 0.00208 0.32731 E">
                                      <p:cBhvr>
                                        <p:cTn id="63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animMotion origin="layout" path="M 0.00209 0.32731 L 0.0809 0.32731 E">
                                      <p:cBhvr>
                                        <p:cTn id="67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animMotion origin="layout" path="M 0.0809 0.32731 L 0.02586 0.40092 E">
                                      <p:cBhvr>
                                        <p:cTn id="71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animMotion origin="layout" path="M 0.02587 0.40092 L 0.1125 0.3905 E">
                                      <p:cBhvr>
                                        <p:cTn id="75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animMotion origin="layout" path="M 0.11249 0.3905 L 0.12812 0.45346 E">
                                      <p:cBhvr>
                                        <p:cTn id="79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applause.wav"/>
                                        </p:tgtEl>
                                      </p:cMediaNode>
                                    </p:audio>
                                    <p:animMotion origin="layout" path="M 0.12812 0.45346 L 0.17534 0.64258 E">
                                      <p:cBhvr>
                                        <p:cTn id="83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animMotion origin="layout" path="M -2.22222E-006 1.48148E-006 L -0.07864 0.04213 E">
                                      <p:cBhvr>
                                        <p:cTn id="8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animMotion origin="layout" path="M -0.07864 0.04213 L 0.02361 0.11574 E">
                                      <p:cBhvr>
                                        <p:cTn id="92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mes.wav"/>
                                        </p:tgtEl>
                                      </p:cMediaNode>
                                    </p:audio>
                                    <p:animMotion origin="layout" path="M 0.02361 0.11574 L -0.07083 0.15764 E">
                                      <p:cBhvr>
                                        <p:cTn id="9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mes.wav"/>
                                        </p:tgtEl>
                                      </p:cMediaNode>
                                    </p:audio>
                                    <p:animMotion origin="layout" path="M -0.07083 0.15764 L 0.02361 0.21018 E">
                                      <p:cBhvr>
                                        <p:cTn id="100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mes.wav"/>
                                        </p:tgtEl>
                                      </p:cMediaNode>
                                    </p:audio>
                                    <p:animMotion origin="layout" path="M 0.02361 0.21018 L -0.07083 0.25231 E">
                                      <p:cBhvr>
                                        <p:cTn id="104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animMotion origin="layout" path="M -0.07083 0.25232 L 0.03524 0.30602 E">
                                      <p:cBhvr>
                                        <p:cTn id="10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mes.wav"/>
                                        </p:tgtEl>
                                      </p:cMediaNode>
                                    </p:audio>
                                    <p:animMotion origin="layout" path="M 0.03525 0.30603 L -0.02778 0.37941 E">
                                      <p:cBhvr>
                                        <p:cTn id="112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mes.wav"/>
                                        </p:tgtEl>
                                      </p:cMediaNode>
                                    </p:audio>
                                    <p:animMotion origin="layout" path="M -0.02778 0.3794 L 0.06684 0.38982 E">
                                      <p:cBhvr>
                                        <p:cTn id="11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himes.wav"/>
                                        </p:tgtEl>
                                      </p:cMediaNode>
                                    </p:audio>
                                    <p:animMotion origin="layout" path="M 0.06684 0.38981 L -0.01979 0.45278 E">
                                      <p:cBhvr>
                                        <p:cTn id="120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applause.wav"/>
                                        </p:tgtEl>
                                      </p:cMediaNode>
                                    </p:audio>
                                    <p:animMotion origin="layout" path="M -0.01979 0.45278 L -0.01979 0.65255 E">
                                      <p:cBhvr>
                                        <p:cTn id="124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himes.wav"/>
                                        </p:tgtEl>
                                      </p:cMediaNode>
                                    </p:audio>
                                    <p:animMotion origin="layout" path="M 2.22222E-006 -2.59259E-006 L -0.04722 0.09445 E">
                                      <p:cBhvr>
                                        <p:cTn id="129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himes.wav"/>
                                        </p:tgtEl>
                                      </p:cMediaNode>
                                    </p:audio>
                                    <p:animMotion origin="layout" path="M -0.04721 0.09445 L 0.02379 0.12593 E">
                                      <p:cBhvr>
                                        <p:cTn id="133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himes.wav"/>
                                        </p:tgtEl>
                                      </p:cMediaNode>
                                    </p:audio>
                                    <p:animMotion origin="layout" path="M 0.02379 0.12592 L -0.06284 0.14676 E">
                                      <p:cBhvr>
                                        <p:cTn id="137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himes.wav"/>
                                        </p:tgtEl>
                                      </p:cMediaNode>
                                    </p:audio>
                                    <p:animMotion origin="layout" path="M -0.06285 0.14676 L -0.03924 0.22037 E">
                                      <p:cBhvr>
                                        <p:cTn id="141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himes.wav"/>
                                        </p:tgtEl>
                                      </p:cMediaNode>
                                    </p:audio>
                                    <p:animMotion origin="layout" path="M -0.03924 0.22037 L -0.07865 0.29398 E">
                                      <p:cBhvr>
                                        <p:cTn id="145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himes.wav"/>
                                        </p:tgtEl>
                                      </p:cMediaNode>
                                    </p:audio>
                                    <p:animMotion origin="layout" path="M -0.07864 0.29398 L 0.00018 0.35694 E">
                                      <p:cBhvr>
                                        <p:cTn id="149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himes.wav"/>
                                        </p:tgtEl>
                                      </p:cMediaNode>
                                    </p:audio>
                                    <p:animMotion origin="layout" path="M 0.00018 0.35694 L -0.03923 0.44097 E">
                                      <p:cBhvr>
                                        <p:cTn id="153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himes.wav"/>
                                        </p:tgtEl>
                                      </p:cMediaNode>
                                    </p:audio>
                                    <p:animMotion origin="layout" path="M -0.03924 0.44097 L -0.11788 0.49352 E">
                                      <p:cBhvr>
                                        <p:cTn id="157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himes.wav"/>
                                        </p:tgtEl>
                                      </p:cMediaNode>
                                    </p:audio>
                                    <p:animMotion origin="layout" path="M -0.11788 0.49352 L -0.03923 0.58797 E">
                                      <p:cBhvr>
                                        <p:cTn id="161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applause.wav"/>
                                        </p:tgtEl>
                                      </p:cMediaNode>
                                    </p:audio>
                                    <p:animMotion origin="layout" path="M -0.03923 0.58797 L -0.18107 0.67199 E">
                                      <p:cBhvr>
                                        <p:cTn id="165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himes.wav"/>
                                        </p:tgtEl>
                                      </p:cMediaNode>
                                    </p:audio>
                                    <p:animMotion origin="layout" path="M -0.00086 0.00162 L 0.04653 0.07523 E">
                                      <p:cBhvr>
                                        <p:cTn id="17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himes.wav"/>
                                        </p:tgtEl>
                                      </p:cMediaNode>
                                    </p:audio>
                                    <p:animMotion origin="layout" path="M 0.04653 0.07523 L -0.01649 0.12755 E">
                                      <p:cBhvr>
                                        <p:cTn id="174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himes.wav"/>
                                        </p:tgtEl>
                                      </p:cMediaNode>
                                    </p:audio>
                                    <p:animMotion origin="layout" path="M -0.01649 0.12755 L -0.07152 0.20116 E">
                                      <p:cBhvr>
                                        <p:cTn id="178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chimes.wav"/>
                                        </p:tgtEl>
                                      </p:cMediaNode>
                                    </p:audio>
                                    <p:animMotion origin="layout" path="M -0.07152 0.20116 L 0.00712 0.2537 E">
                                      <p:cBhvr>
                                        <p:cTn id="18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himes.wav"/>
                                        </p:tgtEl>
                                      </p:cMediaNode>
                                    </p:audio>
                                    <p:animMotion origin="layout" path="M 0.00713 0.2537 L -0.06388 0.31667 E">
                                      <p:cBhvr>
                                        <p:cTn id="18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himes.wav"/>
                                        </p:tgtEl>
                                      </p:cMediaNode>
                                    </p:audio>
                                    <p:animMotion origin="layout" path="M -0.06388 0.31667 L 0.03056 0.37986 E">
                                      <p:cBhvr>
                                        <p:cTn id="19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himes.wav"/>
                                        </p:tgtEl>
                                      </p:cMediaNode>
                                    </p:audio>
                                    <p:animMotion origin="layout" path="M 0.03056 0.37987 L -0.04808 0.42199 E">
                                      <p:cBhvr>
                                        <p:cTn id="194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himes.wav"/>
                                        </p:tgtEl>
                                      </p:cMediaNode>
                                    </p:audio>
                                    <p:animMotion origin="layout" path="M -0.04809 0.422 L -0.11892 0.50602 E">
                                      <p:cBhvr>
                                        <p:cTn id="198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chimes.wav"/>
                                        </p:tgtEl>
                                      </p:cMediaNode>
                                    </p:audio>
                                    <p:animMotion origin="layout" path="M -0.11892 0.50602 L -0.08749 0.61112 E">
                                      <p:cBhvr>
                                        <p:cTn id="20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applause.wav"/>
                                        </p:tgtEl>
                                      </p:cMediaNode>
                                    </p:audio>
                                    <p:animMotion origin="layout" path="M -0.08749 0.61111 L -0.33958 0.66366 E">
                                      <p:cBhvr>
                                        <p:cTn id="20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Kako  igrat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dijelite učenike u  5 gru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10 točnih odgovora  dovest će ekipu  do pobje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unce  se  pokreče  klikom   na  broj eki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Berlin Sans FB"/>
              </a:rPr>
              <a:t>Priredila Antoneta Vilić - OŠFF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20:46:10Z</dcterms:created>
  <dc:creator>Antoneta</dc:creator>
  <dc:description/>
  <dc:language>en-US</dc:language>
  <cp:lastModifiedBy>Antoneta</cp:lastModifiedBy>
  <dcterms:modified xsi:type="dcterms:W3CDTF">2010-02-12T00:16:56Z</dcterms:modified>
  <cp:revision>175</cp:revision>
  <dc:subject/>
  <dc:title>Slide 1</dc:title>
</cp:coreProperties>
</file>